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7981-DC71-4B0D-906D-961EEC855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139C-7A1E-497F-942E-C51D05737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C0BB-C0D9-46C8-B802-2EFC804A0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91ED-88D9-43EA-A393-6EE6F6B63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44F6-0EEC-4636-9323-B97DC61E0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7170-E4F5-4D37-8015-DCCC2F253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936C-E5FE-4974-8030-16F828F66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100C-A1D4-4DCF-85E5-98118778B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DDF3-998D-4E63-AB76-CCF6241C0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673B-2D17-44E3-B827-99C3FFC6B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582A-3021-4D29-AA1B-0CE0E5EC2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7627-B8E5-4AB8-8DCD-9190DA457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81846-0532-4EB6-9681-06E84F896B53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Lectur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ELECTROTHERAPY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Alternating currents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low-frequency alternating currents of a sinusoidal shape which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ccur endogenously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he tissues, by interference (superposition) of the middle-frequency currents from two independent circuits, which differ in frequency from 0-100 Hz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obtained by crossing power lines of two middle-frequency circuits which have a different frequency and the same strength. By phenomenon of interference, at a site of crossing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io-pow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obtained, whose frequency amounts to the difference in frequency of the component currents, that’s why they are called 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“crossed curr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cy of one circuit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lways constant and amounts to 4000Hz. The other circuit has a variable frequency which amounts from 3900 to 4000Hz or 4000 to 4100Hz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btained current- IFC (C) can be constant or rhythmically variable within the range from 0 to 100Hz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ides its frequency, a current changes its intensity of interference from maximal interference (100%) to 0 and vice ver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ical effect of IC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193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timulatory effect on the neuromuscular system, causing muscle contrac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50 Hz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mulatory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ghly trophic effect, antiedematous, analgesic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z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mulate bone heal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with a rhythmic frequenc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90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sympaticolytic and analgesic eff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mmed biological effects of IC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blood flow, causing vasodilation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leads to the increased blood flow and oxygenation of the tissues, as well as faster toxin and pain mediator eli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ges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of improved circulation and oxygenation of the tissues and the effect it has on nerve end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d excitability and conductability of the peripheral nerv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has a stimulatory effect on the damaged nerv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hibitory effect on the sympaticus and stimulatory on the parasympatic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 of the lymph flo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resorption of ed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d muscle mas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and promoted wound hea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imulated formation of callus in fra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of pH value towards the alcalinity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i-inflammatory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ing circulation, metabolism and resor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transversely-striated and smooth muscle fi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ing of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 of a curren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ation of the application ti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o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of treatments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189080" y="127944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traumatic conditions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us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or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xa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fractures and its complication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udec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ical and lumbar syndro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algia, neuri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after the nerve inj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hri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ekhtere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H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eumatoid arthritis, non-articular rheu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. Burg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ynau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frequency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n alternating current with a frequency over 300 kHz. HFC represents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pecific form of thermotherap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uses heat, obtained by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vers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electrical power, to be absorbed by tiss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eat produced this way in the organism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 called endogenous heat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cause it is developed in the tissues themselves, unlike the exogenous heat, which acts externally on the sk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-wave diathermi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286000" y="2057400"/>
            <a:ext cx="5029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,12 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,06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19320" y="1600200"/>
            <a:ext cx="77724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ffect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9320" y="3924360"/>
            <a:ext cx="77724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5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nervou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us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etabolism and enzym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static and bactericida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NG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intensity an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irection of ion f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304920"/>
            <a:ext cx="83822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odes for SWD and methods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42920" y="206064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halcogenide glass electrodes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ic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lat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rubber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abb’s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ic fiel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il of an electrod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onode and mi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nduction cable o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ing of intensity is perform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t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ximal dose is up to 100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is usually determ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on the subj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ient’s feeling, whereby pleasant and mild warmth should be fe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adiation intensity, the following doses may be appl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A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warmth is not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Oligo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only mild warmth is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Thermal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when pleasant warmth is felt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Hyper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strong warmth is f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the application time is from 15 to 20 minu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heumatic diseases in chronic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s after the injury of the locomotive apparatus (except the acute on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diseases of ear, nose and throat (sinusitis, otiti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ynecological chronic non-specific inflammatory diseases (adnexitis, parametritis, salpingitis, adhesions after gynecological surgeries, primary and secondary ster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non-specific pulmonary diseases (chronic bronchitis, after pneumonia and exudative pleuritis, lung absc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n diseases: furunculosis, carbuncle, hydroaden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Contra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ute inflamma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brile condi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alignant tumor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Bleeding tendenc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nstru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tal objects at the site of applic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Pregnanc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cave abortus)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Obliterating endarterit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Unadequate sensory response to thermal stimuli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recautionary measures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752480" y="1905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e-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oden bed or wooden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ing aid and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 im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386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Faraday 183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symmetr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rregularity of a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ly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762120" y="1905120"/>
            <a:ext cx="4033800" cy="4520880"/>
            <a:chOff x="762120" y="1905120"/>
            <a:chExt cx="4033800" cy="4520880"/>
          </a:xfrm>
        </p:grpSpPr>
        <p:sp>
          <p:nvSpPr>
            <p:cNvPr id="49" name="Line 4"/>
            <p:cNvSpPr/>
            <p:nvPr/>
          </p:nvSpPr>
          <p:spPr>
            <a:xfrm>
              <a:off x="798480" y="4642200"/>
              <a:ext cx="3997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 flipV="1">
              <a:off x="762120" y="1919160"/>
              <a:ext cx="0" cy="256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V="1">
              <a:off x="763560" y="1905120"/>
              <a:ext cx="0" cy="2659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939960" y="3168000"/>
              <a:ext cx="371160" cy="2427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427840"/>
                <a:gd name="textAreaBottom" fmla="*/ 2428200 h 242784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25600" y="2355840"/>
              <a:ext cx="165240" cy="32925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760840" y="3060360"/>
              <a:ext cx="431640" cy="24847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4720"/>
                <a:gd name="textAreaBottom" fmla="*/ 2485080 h 2484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1817640" y="3236400"/>
              <a:ext cx="339840" cy="23421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342160"/>
                <a:gd name="textAreaBottom" fmla="*/ 2342520 h 234216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368440" y="2708280"/>
              <a:ext cx="228600" cy="3717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chnique of ap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189080" y="1968480"/>
            <a:ext cx="7802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Stab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Bipolar technique with metal plate electr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Labi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onopolar technique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Active electrode is in a shape of a cyllinder or in a shape of a bigger or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smaller brus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2438280" y="2438280"/>
            <a:ext cx="5786640" cy="1914480"/>
            <a:chOff x="2438280" y="2438280"/>
            <a:chExt cx="5786640" cy="1914480"/>
          </a:xfrm>
        </p:grpSpPr>
        <p:sp>
          <p:nvSpPr>
            <p:cNvPr id="61" name="Line 3"/>
            <p:cNvSpPr/>
            <p:nvPr/>
          </p:nvSpPr>
          <p:spPr>
            <a:xfrm>
              <a:off x="2468520" y="4316040"/>
              <a:ext cx="5756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468468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6624720" y="3061080"/>
              <a:ext cx="237960" cy="1240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268272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 flipV="1">
              <a:off x="2438280" y="2438280"/>
              <a:ext cx="0" cy="1914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u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 ms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ed for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diagnostic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Has a stimulative effect on the sensory and motor nerve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etanic contracti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 is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ic electrodiagno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s labile faradization in psychogenic disor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ysteria and enur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4936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2971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mpuls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ually in an array of impulses of 7 or more very short impul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pulse lasts from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and the frequency is fro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to 125 H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mpulses are triangular or rectangular, biphasic or monoph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66880" y="1905120"/>
            <a:ext cx="4265640" cy="877320"/>
            <a:chOff x="2666880" y="1905120"/>
            <a:chExt cx="4265640" cy="877320"/>
          </a:xfrm>
        </p:grpSpPr>
        <p:sp>
          <p:nvSpPr>
            <p:cNvPr id="72" name="Line 4"/>
            <p:cNvSpPr/>
            <p:nvPr/>
          </p:nvSpPr>
          <p:spPr>
            <a:xfrm>
              <a:off x="2666880" y="2673360"/>
              <a:ext cx="4265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681280" y="1905120"/>
              <a:ext cx="0" cy="761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28274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3260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3370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514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36590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143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311616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297180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251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359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5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613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721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033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lectrostimulation for p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ce of endogenous opioid and non-opioid system in achieving the analgesic effect: endorphins and enkephal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-frequency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terferential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Nemec’s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cur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Sinusoid-modulated currents </a:t>
            </a:r>
            <a:r>
              <a:rPr b="1" lang="en-GB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Russian stimulation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Nada Miklja</cp:lastModifiedBy>
  <dcterms:modified xsi:type="dcterms:W3CDTF">2023-09-26T08:53:48Z</dcterms:modified>
  <cp:revision>57</cp:revision>
  <dc:subject/>
  <dc:title>NAIZMENIČNE STRUJE</dc:title>
</cp:coreProperties>
</file>